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350-662F-4316-A04D-4D8FA744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E3D-A762-415E-B431-43754064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D0A-5F9D-4A6E-ACD4-91F6DEAF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E83-266F-4D9A-BFA9-04F67E59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090-3670-41EC-9309-88B9827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BD2-EF6E-4599-98D8-F0DC5E8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DF0-92BE-453F-B6DC-248A269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5FA-DA33-4C53-BE89-55A59E15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C89-FA51-4385-B44F-6E1B9972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87C-8837-4B7D-8E43-A830D47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ACD-5F3C-4767-A102-9CD6F5C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D1F-0851-4336-8499-EE76A36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A221-7D2B-4897-980C-8B89A43EB1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7120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82854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49640"/>
            <a:ext cx="2554200" cy="1145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840120" y="3260880"/>
            <a:ext cx="140832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689040" y="2017800"/>
            <a:ext cx="416412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69800" y="2670120"/>
            <a:ext cx="37418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981000" y="3309840"/>
            <a:ext cx="2505240" cy="5065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925640" y="3706920"/>
            <a:ext cx="320688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9"/>
          <a:stretch/>
        </p:blipFill>
        <p:spPr>
          <a:xfrm>
            <a:off x="5950080" y="4584600"/>
            <a:ext cx="2450880" cy="5731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463680" y="4541760"/>
            <a:ext cx="408924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882880" y="5010120"/>
            <a:ext cx="2878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657760" y="2335320"/>
            <a:ext cx="272412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596880" y="5138640"/>
            <a:ext cx="3865680" cy="920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030320" y="3749760"/>
            <a:ext cx="138888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66640" y="2298600"/>
            <a:ext cx="504216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566640" y="2792520"/>
            <a:ext cx="391968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566640" y="927000"/>
            <a:ext cx="29149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13" descr=""/>
          <p:cNvPicPr/>
          <p:nvPr/>
        </p:nvPicPr>
        <p:blipFill>
          <a:blip r:embed="rId8"/>
          <a:stretch/>
        </p:blipFill>
        <p:spPr>
          <a:xfrm>
            <a:off x="5657760" y="3949560"/>
            <a:ext cx="279720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66640" y="4614840"/>
            <a:ext cx="46515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579600" y="1511280"/>
            <a:ext cx="2876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9:00Z</dcterms:modified>
  <cp:revision>10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